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AA5-C421-475C-9C27-B40DDC29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830-71EF-4C77-921B-F91CD471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0BA-ACEC-4ED1-A4B7-F0A52585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F99-C561-4F57-A077-BA81EC77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EF49-26B5-49C4-A4F0-BA0C16C4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E181-955A-41F4-8154-7BB11892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3BB4-265C-4218-AFBE-01B321AD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132D-861F-4831-8775-BFC6289F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A520-18F8-4D3C-AD84-E47230FA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4CE4-A2D6-4B0C-9C64-5FAE62A1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B447-1790-4FEF-A26E-E2058642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6A6-8538-428E-B423-003EE352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BC68-EBD0-49A8-B4B6-31BABAAA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7272-5FA9-4149-9877-878CB78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2BFC-B5AE-4074-9C04-4D5E829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9EF3-282B-4555-A9B3-C7769C8B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BBF8-3441-4F9F-8373-1DACDBCB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7C09-6FFD-4125-970F-93564C2A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823D-3D67-42C2-9493-CA2CA28A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102C-6F3A-4056-BD0A-E63E837A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EF25-0ACC-4E7E-94A0-0ADBA2A6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6341-FE83-451E-B3E9-A1D30315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87F-0716-4E8B-90FB-6403024A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7B54-35B1-48A6-9AB5-29695701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CD0D-748D-4227-9DCF-4E1C74B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8422-BF62-4600-BED0-4A11990D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A000-3A62-43C8-A63F-2C466861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4B4A-72A0-4051-A7D7-575ADF9B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6AF2-4837-43D1-A11F-FDA79450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0E35-A2D5-431C-9DAD-73B0A059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5762-F535-40F8-AF8F-BB926E2B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B8CE7-D6F7-4281-8184-C8AD0BA7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B2AA-63C9-4A6C-8E95-EA1867B1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088-165D-4992-B3AE-C7ECB36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65088-D242-41D9-9832-B59C41C0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E70A-D3B7-4D91-AE6F-144FA84A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C38C-9FD2-4087-8E85-251D7028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A3E8-9E78-4871-9E67-9F2325E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25BD-4CA3-4C79-9502-75A5D3D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5D99-F255-4074-941D-7F65AA63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BBC3-CA49-4D5A-BDA0-670377B3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F494-1E9D-4699-95F1-7CB8A037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065FF-77BC-47A9-87CA-F45EDAF6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B18-6169-45E5-A9EB-3426FEE8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C2D-CE2F-41FA-8CD2-A6AD2B4A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F3A-30BC-4862-BA43-869ABEA6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917-BC68-4A0D-AE4F-7DB0F2EB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FBB-A25F-4451-BEE3-C1EC7C33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9BE1E-800B-4297-AC81-C6477D49404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43438-9589-4D00-8EAD-CB9BCC37838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20AA6-BF74-4C11-BD15-A37B6E9F127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91317-A5B8-46DC-8F55-17CAB053A4A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5414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rebuchet MS"/>
                <a:ea typeface="맑은 고딕"/>
              </a:rPr>
              <a:t>Университетнинг кредит таълим тизими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01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rebuchet MS"/>
              </a:rPr>
              <a:t>Алишеров Ф.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88960" y="260280"/>
          <a:ext cx="5753160" cy="5729400"/>
        </p:xfrm>
        <a:graphic>
          <a:graphicData uri="http://schemas.openxmlformats.org/drawingml/2006/table">
            <a:tbl>
              <a:tblPr/>
              <a:tblGrid>
                <a:gridCol w="3335400"/>
                <a:gridCol w="1190520"/>
                <a:gridCol w="1227240"/>
              </a:tblGrid>
              <a:tr h="67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а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</a:tr>
              <a:tr h="63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3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АСТУРЛАШ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32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ЗИ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3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МАНИТ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3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Т ТИЛ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3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С/УЗБЕК ТИЛ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3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СМОНИЙ ТАРБ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3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Карздорли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Машғулотлар 10 соатдан кўп (5 пара) ўзрли сабабларсиз дарс қолдирганда, талаба фандан «четлаштирилади»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Машғулотларни сабабли қолдирилганда, машғулотларни оддий равишда давом эттирса булади. ***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Фанни узлаштира ололмасли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Фанни узлаштира ололмаса/фандан четлаштирилганда, таътил вактида ушбу фан буйича кайта укиш имконияти бор (4 хафта) ***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Ушбу интенсив курс нархи контракт кийматига кирмайди (давлат грантга хам тегишли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Фанни узлаштира ололмасли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урснинг нархи фаннинг кредити асосида хисобланад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1 кредитнинг нархи: Бир йиллик контракт суммаси / 60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  <a:ea typeface="굴림"/>
              </a:rPr>
              <a:t>8477800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/ 60 =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141297 сум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атематика 1  (8</a:t>
            </a:r>
            <a:r>
              <a:rPr b="0" i="1" lang="en-US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кредит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141297 * 8 =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1130376 сум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алабаларни куллаб-кувватлаш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двайзер (маслахатчи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Фан танлаш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Укув стратегияс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бошкалар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рато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74304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Машгулотларда катнашиш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74304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Ота-она билан ишлаш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74304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арбия ва тушунтириш фаолият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орта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19280" y="29764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rebuchet MS"/>
              </a:rPr>
              <a:t>Lms.tuit.uz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"/>
          <p:cNvPicPr/>
          <p:nvPr/>
        </p:nvPicPr>
        <p:blipFill>
          <a:blip r:embed="rId1"/>
          <a:stretch/>
        </p:blipFill>
        <p:spPr>
          <a:xfrm>
            <a:off x="792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Кредит тизим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Кредит </a:t>
            </a:r>
            <a:r>
              <a:rPr b="0" lang="mr-IN" sz="2500" spc="-1" strike="noStrike">
                <a:solidFill>
                  <a:srgbClr val="404040"/>
                </a:solidFill>
                <a:latin typeface="Trebuchet MS"/>
                <a:ea typeface="Mangal"/>
              </a:rPr>
              <a:t>–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талабанинг иш хажми </a:t>
            </a:r>
            <a:r>
              <a:rPr b="0" lang="uz-Cyrl-UZ" sz="2500" spc="-1" strike="noStrike">
                <a:solidFill>
                  <a:srgbClr val="404040"/>
                </a:solidFill>
                <a:latin typeface="Trebuchet MS"/>
              </a:rPr>
              <a:t>ў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лчов қиймати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1 Кредит хажми хафтасига 30 соат юкламага тенг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Ҳар хил фанлар ҳар хил кредит қийматига эга бўлиши мумкин. Бундан келиб чиқиб, юклама соати ҳам фарқ қилади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Кредит тизим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Юкламани ярим қисми мустақил ишга ажратилади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МАТЕМАТИКА (8 кредит </a:t>
            </a:r>
            <a:r>
              <a:rPr b="0" lang="mr-IN" sz="2500" spc="-1" strike="noStrike">
                <a:solidFill>
                  <a:srgbClr val="404040"/>
                </a:solidFill>
                <a:latin typeface="Trebuchet MS"/>
                <a:ea typeface="Mangal"/>
              </a:rPr>
              <a:t>–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ҳафтасига  8 соат аудитория машғулоти  + 8 соат мустақил иш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ИНГЛИЗ ТИЛИ (2 кредит </a:t>
            </a:r>
            <a:r>
              <a:rPr b="0" lang="mr-IN" sz="2500" spc="-1" strike="noStrike">
                <a:solidFill>
                  <a:srgbClr val="404040"/>
                </a:solidFill>
                <a:latin typeface="Trebuchet MS"/>
                <a:ea typeface="Mangal"/>
              </a:rPr>
              <a:t>–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хафтасига 2 соат аудитория машғулоти + 2 соат мустакил иш)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алаба мобиллиг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Бутун ўқиш жараёни давомида кредитлар сақланиб қолинади. ***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Укив давомийлиг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626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лий маълумот ҳақида диплом </a:t>
            </a:r>
            <a:r>
              <a:rPr b="1" lang="ru-RU" sz="2500" spc="-1" strike="noStrike">
                <a:solidFill>
                  <a:srgbClr val="404040"/>
                </a:solidFill>
                <a:latin typeface="Trebuchet MS"/>
              </a:rPr>
              <a:t>ФАҚАТГИНА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240 кредит олгандан сўнг берилади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Университетда ўқиш давомийлиги 4 йилдан 7 йилгача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Фан танлаш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Танлов фанлар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Мажбурий фанлар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 u="sng">
                <a:solidFill>
                  <a:srgbClr val="404040"/>
                </a:solidFill>
                <a:uFillTx/>
                <a:latin typeface="Trebuchet MS"/>
              </a:rPr>
              <a:t>Танлаш жараёнида силлабусга эътибор беринг!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Бахолаш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480" y="2160360"/>
            <a:ext cx="6842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rebuchet MS"/>
              </a:rPr>
              <a:t>Умумий баҳони 50% ни ўқитувчи-профессор томонидан  қўйилади: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rebuchet MS"/>
              </a:rPr>
              <a:t>Оралиқ назорат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rebuchet MS"/>
              </a:rPr>
              <a:t>Уйга вазифалар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rebuchet MS"/>
              </a:rPr>
              <a:t>Амалий/Лаборатория ишлари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rebuchet MS"/>
              </a:rPr>
              <a:t>ва ҳ.к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rebuchet MS"/>
              </a:rPr>
              <a:t>Қолган 50% университет томонидан қўйилади: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rebuchet MS"/>
              </a:rPr>
              <a:t>Якуний имтихон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rebuchet MS"/>
              </a:rPr>
              <a:t>Вазифаларни топшириш муддати ҳақида унутманг (</a:t>
            </a:r>
            <a:r>
              <a:rPr b="1" lang="en-US" sz="2300" spc="-1" strike="noStrike">
                <a:solidFill>
                  <a:srgbClr val="404040"/>
                </a:solidFill>
                <a:latin typeface="Trebuchet MS"/>
              </a:rPr>
              <a:t>DEADLINE</a:t>
            </a:r>
            <a:r>
              <a:rPr b="1" lang="ru-RU" sz="2300" spc="-1" strike="noStrike">
                <a:solidFill>
                  <a:srgbClr val="404040"/>
                </a:solidFill>
                <a:latin typeface="Trebuchet MS"/>
              </a:rPr>
              <a:t>)!!!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Бахолаш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2160360"/>
            <a:ext cx="6842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Бахолаш тизими: 2, 3, 4, 5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«3» ёки ундан юқори баҳо олганда, талаба фан учун бутун кредит микдорини олади ва фанни ўзлаштирган ҳисобланади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Курсдан-курсга ўтиш </a:t>
            </a:r>
            <a:r>
              <a:rPr b="1" lang="ru-RU" sz="2500" spc="-1" strike="noStrike">
                <a:solidFill>
                  <a:srgbClr val="404040"/>
                </a:solidFill>
                <a:latin typeface="Trebuchet MS"/>
              </a:rPr>
              <a:t>ФАҚАТГИНА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2.6 дан юқори бўлган </a:t>
            </a:r>
            <a:r>
              <a:rPr b="0" lang="en-US" sz="2500" spc="-1" strike="noStrike">
                <a:solidFill>
                  <a:srgbClr val="404040"/>
                </a:solidFill>
                <a:latin typeface="Trebuchet MS"/>
              </a:rPr>
              <a:t>GPA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мавжуд бўлганда амалга оширилади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PA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– бу нима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Trebuchet MS"/>
              </a:rPr>
              <a:t>K </a:t>
            </a:r>
            <a:r>
              <a:rPr b="0" lang="mr-IN" sz="2500" spc="-1" strike="noStrike">
                <a:solidFill>
                  <a:srgbClr val="404040"/>
                </a:solidFill>
                <a:latin typeface="Trebuchet MS"/>
                <a:ea typeface="Mangal"/>
              </a:rPr>
              <a:t>–</a:t>
            </a:r>
            <a:r>
              <a:rPr b="0" lang="en-US" sz="2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фаннинг кредит миқдори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Trebuchet MS"/>
              </a:rPr>
              <a:t>U </a:t>
            </a:r>
            <a:r>
              <a:rPr b="0" lang="mr-IN" sz="2500" spc="-1" strike="noStrike">
                <a:solidFill>
                  <a:srgbClr val="404040"/>
                </a:solidFill>
                <a:latin typeface="Trebuchet MS"/>
                <a:ea typeface="Mangal"/>
              </a:rPr>
              <a:t>–</a:t>
            </a:r>
            <a:r>
              <a:rPr b="0" lang="en-US" sz="2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фандан тўпланган балл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34920" y="2133720"/>
            <a:ext cx="727380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20:04:25Z</dcterms:created>
  <dc:creator>Microsoft Office User</dc:creator>
  <dc:description/>
  <dc:language>en-US</dc:language>
  <cp:lastModifiedBy>Админстратор</cp:lastModifiedBy>
  <dcterms:modified xsi:type="dcterms:W3CDTF">2018-09-09T04:45:30Z</dcterms:modified>
  <cp:revision>14</cp:revision>
  <dc:subject/>
  <dc:title>Университетнинг янги кредит тизимга утишга талабаларни йўналтириш</dc:title>
</cp:coreProperties>
</file>