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F60-74F9-49AD-ADCB-34CD369A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C2E-6CA0-4C10-B9E3-F9C552AB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1C4-4B6E-4B0D-AF30-9C677366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788-EF5B-4C8D-91AB-296261B7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100-80D1-4E3F-AB8E-ECAC5424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7ED-C456-4930-A9AD-2D9E3073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F4A-AE8D-402F-BC25-B90CE1B4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A19-BB3E-481C-999B-84D78198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177-462E-4C44-BCC7-0230D460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2B0-F1A0-4CD8-B925-2350B2F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B7D-F10C-4510-B78D-2700C90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38C-944C-4F59-83A2-AEE173AA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A3D0-592B-4246-8029-55F0C6D5C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yting.tdi.uz/detail/?ID=350&amp;POSITION=1" TargetMode="External"/><Relationship Id="rId2" Type="http://schemas.openxmlformats.org/officeDocument/2006/relationships/hyperlink" Target="http://reyting.tdi.uz/detail/?ID=351&amp;POSITION=2" TargetMode="External"/><Relationship Id="rId3" Type="http://schemas.openxmlformats.org/officeDocument/2006/relationships/hyperlink" Target="http://reyting.tdi.uz/detail/?ID=352&amp;POSITION=3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4000" cy="39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Олий таълим муассасалари рейтингини аниқлаш</a:t>
            </a: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н</a:t>
            </a:r>
            <a:r>
              <a:rPr b="0" lang="uz-Cyrl-UZ" sz="5400" spc="-1" strike="noStrike">
                <a:solidFill>
                  <a:srgbClr val="000000"/>
                </a:solidFill>
                <a:latin typeface="Calibri Light"/>
              </a:rPr>
              <a:t>атижалари тахлил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360" y="0"/>
          <a:ext cx="12182760" cy="2468520"/>
        </p:xfrm>
        <a:graphic>
          <a:graphicData uri="http://schemas.openxmlformats.org/drawingml/2006/table">
            <a:tbl>
              <a:tblPr/>
              <a:tblGrid>
                <a:gridCol w="2554560"/>
                <a:gridCol w="642960"/>
                <a:gridCol w="3222360"/>
                <a:gridCol w="1828800"/>
                <a:gridCol w="1943280"/>
                <a:gridCol w="1990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Ҳисоблаш ус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ЎзМ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Д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АТ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102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ор-ўқитувчиларнинг дарс бераётган фани, хорижий тиллар ва ахборот-коммуникация технологиялари бўйича билим даражасини аниқла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 - ОТМ  ПЎларининг умумий сони;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дарс бераётган фанлари бўйича ижобий баҳоланган ПЎлар сони;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хорижий тиллар бўйича ижобий баҳоланган ПЎлар сони;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- ахборот-коммуникация технологиялари бўйича ижобий баҳоланган ПЎлар с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3745080" y="444600"/>
            <a:ext cx="2084400" cy="6238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152280" y="3492360"/>
            <a:ext cx="118681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600" spc="-1" strike="noStrike">
                <a:solidFill>
                  <a:srgbClr val="ffd966"/>
                </a:solidFill>
                <a:latin typeface="Calibri"/>
              </a:rPr>
              <a:t>ТАТУ Профессор-ўқитувчиларнинг илмий фаолияти бўйича жами тўплаган бали: </a:t>
            </a:r>
            <a:r>
              <a:rPr b="0" lang="ru-RU" sz="3600" spc="-1" strike="noStrike">
                <a:solidFill>
                  <a:srgbClr val="ffd966"/>
                </a:solidFill>
                <a:latin typeface="Calibri"/>
              </a:rPr>
              <a:t>24.9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360" y="476280"/>
          <a:ext cx="12182760" cy="6170760"/>
        </p:xfrm>
        <a:graphic>
          <a:graphicData uri="http://schemas.openxmlformats.org/drawingml/2006/table">
            <a:tbl>
              <a:tblPr/>
              <a:tblGrid>
                <a:gridCol w="2554560"/>
                <a:gridCol w="642960"/>
                <a:gridCol w="4356000"/>
                <a:gridCol w="1838160"/>
                <a:gridCol w="1400400"/>
                <a:gridCol w="1390680"/>
              </a:tblGrid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Ҳисоблаш ус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ЎзМ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Д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АТ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0872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ълим бериш сифати даражаси (дарсларни таҳлил қилиш ва талабалардан ўтказилган сўровнома натижалари асосид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 - сўровномада иштирок этган талабалар сони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таълим олиш учун яратилган шароитлар бўйича берилган ижобий жавоблар сони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офессор-ўқитувчилар дарсларининг сифатига берилган ижобий жавоблар сони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талабалар билимини баҳолашнинг холислиги ва ПЎларга берилган ижобий жавоблар сон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6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 профессор-ўқитувчилари томонидан ёзиб тайёрланган ва белгиланган тартибда рўйхатдан ўтказилиб, чоп қилинган дарсликлар ва ўқув қўлланма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сликлар сони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ўқув қўлланмалар сони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- ОТМ ПЎларининг умумий с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4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ижий ўқитувчилар ва талабалар (мос равишда умумий сонга нисбатан % да) улуш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 ПЎларининг умумий сони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 талабаларининг умумий сони (бакалавриат ва магистратура)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ижий ўқитувчилар сони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ижий талабалар сони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ижий давлатлар сони (шартли равишд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 =200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деб қабул қилиш мумкин)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ОТМга хориждан талабалар келиб ўқиётган давлатлар сон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" y="0"/>
            <a:ext cx="121827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Ўқув-услубий ишлар ва ўқитиш сифати 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max=57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Рисунок 4" descr=""/>
          <p:cNvPicPr/>
          <p:nvPr/>
        </p:nvPicPr>
        <p:blipFill>
          <a:blip r:embed="rId1"/>
          <a:stretch/>
        </p:blipFill>
        <p:spPr>
          <a:xfrm>
            <a:off x="4286160" y="1119240"/>
            <a:ext cx="2057400" cy="600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2"/>
          <a:stretch/>
        </p:blipFill>
        <p:spPr>
          <a:xfrm>
            <a:off x="4424400" y="3103560"/>
            <a:ext cx="1781280" cy="533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"/>
          <p:cNvPicPr/>
          <p:nvPr/>
        </p:nvPicPr>
        <p:blipFill>
          <a:blip r:embed="rId3"/>
          <a:stretch/>
        </p:blipFill>
        <p:spPr>
          <a:xfrm>
            <a:off x="4024440" y="4565520"/>
            <a:ext cx="2581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360" y="0"/>
          <a:ext cx="12182760" cy="4251240"/>
        </p:xfrm>
        <a:graphic>
          <a:graphicData uri="http://schemas.openxmlformats.org/drawingml/2006/table">
            <a:tbl>
              <a:tblPr/>
              <a:tblGrid>
                <a:gridCol w="2554560"/>
                <a:gridCol w="642960"/>
                <a:gridCol w="4356000"/>
                <a:gridCol w="1838160"/>
                <a:gridCol w="1400400"/>
                <a:gridCol w="13906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Ҳисоблаш ус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ЎзМ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Д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АТ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756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ижий ОТМлар билан алмашув дастурларида ўқитувчилар ва талабаларнинг иштирок этиш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 талабаларининг (бакалаврият, магистратура) умумий сони;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к алмашув дастурларда иштирок этувчи талабалар сони;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мий ёки таълим лойиҳаларида (хорижий, қўшма) иштирок этган ПЎлар сони;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мий ёки ўқув лойиҳаларда (хорижий, қўшма) иштирок этган талабалар сони;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лқаро конференциялар ёки семинарларда иштирок этган ПЎлар сони;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лқаро конференция ёки семинарларда иштирок этган талабалар с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18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ълим йўналишлари (мутахассисликлари) бўйича чет тилида ўқитиладиган фанлар со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- ўқув курсларининг умумий сони (ихтисослик ва махсус фанлар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хорижий тилда ўқитиладиган ўқув курс(фан)лари с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70" name="Рисунок 4" descr=""/>
          <p:cNvPicPr/>
          <p:nvPr/>
        </p:nvPicPr>
        <p:blipFill>
          <a:blip r:embed="rId1"/>
          <a:stretch/>
        </p:blipFill>
        <p:spPr>
          <a:xfrm>
            <a:off x="3938760" y="652320"/>
            <a:ext cx="2809800" cy="600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2"/>
          <a:stretch/>
        </p:blipFill>
        <p:spPr>
          <a:xfrm>
            <a:off x="4724280" y="3129120"/>
            <a:ext cx="1238400" cy="4759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66680" y="4816440"/>
            <a:ext cx="118681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600" spc="-1" strike="noStrike">
                <a:solidFill>
                  <a:srgbClr val="ffd966"/>
                </a:solidFill>
                <a:latin typeface="Calibri"/>
              </a:rPr>
              <a:t>ТАТУ да ўқув-услубий ишлар ва ўқитиш сифати бўйича жами тўплаган бали: </a:t>
            </a:r>
            <a:r>
              <a:rPr b="0" lang="ru-RU" sz="3600" spc="-1" strike="noStrike">
                <a:solidFill>
                  <a:srgbClr val="ffd966"/>
                </a:solidFill>
                <a:latin typeface="Calibri"/>
              </a:rPr>
              <a:t>15,8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Calibri Light"/>
              </a:rPr>
              <a:t>Таклифлар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499680"/>
            <a:ext cx="121921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нёнин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фуз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00 талиги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рувч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лий таълим муассасаларида фаолият юритадиган профессор-ўқитувчилар билан илмий алоқалар ўрнатиш (биргаликдаги лойиҳаларни амалга ошириш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D </a:t>
            </a:r>
            <a:r>
              <a:rPr b="0" lang="uz-Cyrl-UZ" sz="2400" spc="-1" strike="noStrike">
                <a:solidFill>
                  <a:srgbClr val="000000"/>
                </a:solidFill>
                <a:latin typeface="Calibri"/>
              </a:rPr>
              <a:t>в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Sc </a:t>
            </a:r>
            <a:r>
              <a:rPr b="0" lang="uz-Cyrl-UZ" sz="2400" spc="-1" strike="noStrike">
                <a:solidFill>
                  <a:srgbClr val="000000"/>
                </a:solidFill>
                <a:latin typeface="Calibri"/>
              </a:rPr>
              <a:t>ҳимояларига жалб этиш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000000"/>
                </a:solidFill>
                <a:latin typeface="Calibri"/>
              </a:rPr>
              <a:t>Илмий даражага эга бўлмаган ассистент ўқитувчиларни илмий-тадқиқот фаолиятига жалб этиш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D </a:t>
            </a:r>
            <a:r>
              <a:rPr b="0" lang="uz-Cyrl-UZ" sz="2400" spc="-1" strike="noStrike">
                <a:solidFill>
                  <a:srgbClr val="000000"/>
                </a:solidFill>
                <a:latin typeface="Calibri"/>
              </a:rPr>
              <a:t>в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Sc </a:t>
            </a:r>
            <a:r>
              <a:rPr b="0" lang="uz-Cyrl-UZ" sz="2400" spc="-1" strike="noStrike">
                <a:solidFill>
                  <a:srgbClr val="000000"/>
                </a:solidFill>
                <a:latin typeface="Calibri"/>
              </a:rPr>
              <a:t>ҳимояларини кўпайтириш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D </a:t>
            </a:r>
            <a:r>
              <a:rPr b="0" lang="uz-Cyrl-UZ" sz="2400" spc="-1" strike="noStrike">
                <a:solidFill>
                  <a:srgbClr val="000000"/>
                </a:solidFill>
                <a:latin typeface="Calibri"/>
              </a:rPr>
              <a:t>в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Sc</a:t>
            </a:r>
            <a:r>
              <a:rPr b="0" lang="uz-Cyrl-UZ" sz="2400" spc="-1" strike="noStrike">
                <a:solidFill>
                  <a:srgbClr val="000000"/>
                </a:solidFill>
                <a:latin typeface="Calibri"/>
              </a:rPr>
              <a:t> кудузги қабул квоталарини кўпайтириш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000000"/>
                </a:solidFill>
                <a:latin typeface="Calibri"/>
              </a:rPr>
              <a:t>Ҳалқаро тан олинган юқори импакт факторли илмий журналларда мақолалар сонини кўпайтириш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мий-тадқиқот фаолияти ва амалиётга ҳорижий манбалардан олинган маблағлар ҳажмини кўпайтириш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ТУ профессор-ўқитувчилари яратган илмий-техникавий янгиликлар бўйича тасдиқланган лицензияли шартномалар сонини кўпайтириш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алқаро ва Республикада ўтказиладиган нуфузли танловларда ТАТУ профессор-ўқитувчиларининг иштирокини таъминлаш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ижий тиллар бўйича ТАТУ профессор-ўқитувчиларининг билим даражасини доимий ошириб боришларини йўлга қўйиш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ТУ профессор-ўқитувчилари томонидан ёзиб тайёрланган ва белгиланган тартибда рўйхатдан ўтказилиб, чоп қилинган дарсликлар ва ўқув қўлланмалар сонини кўпайтириш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ижий ОТМлар билан алмашув дастурларини амалга ошириш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14480" y="158760"/>
          <a:ext cx="11648880" cy="5410080"/>
        </p:xfrm>
        <a:graphic>
          <a:graphicData uri="http://schemas.openxmlformats.org/drawingml/2006/table">
            <a:tbl>
              <a:tblPr/>
              <a:tblGrid>
                <a:gridCol w="336240"/>
                <a:gridCol w="4930920"/>
                <a:gridCol w="1343160"/>
                <a:gridCol w="1152360"/>
                <a:gridCol w="1409760"/>
                <a:gridCol w="1314360"/>
                <a:gridCol w="1162080"/>
              </a:tblGrid>
              <a:tr h="750960"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ий таълим муассасасининг но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ми баллга нисбатан фоиз ҳисоб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Ф*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ЎС*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Б*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Т*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25440"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1"/>
                        </a:rPr>
                        <a:t>Ўзбекистон миллий университ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2"/>
                        </a:rPr>
                        <a:t>Тошкент давлат шарқшунослик институ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563c1"/>
                          </a:solidFill>
                          <a:uFillTx/>
                          <a:latin typeface="Calibri"/>
                          <a:hlinkClick r:id="rId3"/>
                        </a:rPr>
                        <a:t>Тошкент ирригация ва қишлоқ хўжалигини механизациялаш муҳандислари институ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шкент тўқимачилик ва енгил саноат институ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қанд давлат университ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шкент тиббиёт академия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шкент давлат стоматология институ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Ўзбекистон давлат жаҳон тиллари университ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шкент темир йўл муҳандислари институ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шкент ахборот технологиялари университ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d966"/>
                          </a:solidFill>
                          <a:latin typeface="Calibri"/>
                        </a:rPr>
                        <a:t>24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d966"/>
                          </a:solidFill>
                          <a:latin typeface="Calibri"/>
                        </a:rPr>
                        <a:t>15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Прямоугольник 5"/>
          <p:cNvSpPr/>
          <p:nvPr/>
        </p:nvSpPr>
        <p:spPr>
          <a:xfrm>
            <a:off x="1771560" y="5657760"/>
            <a:ext cx="866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Ф - Профессор-ўқитувчиларнинг илмий фаолият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ЎС - Ўқув-услубий ишлар ва ўқитиш сифат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Б - Талабалар билими ва битирувчилар сифат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Т - Ўқув жараёнининг моддий-техник таъминланганлиги, АКТни қўллаш ва бошқал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12192120" cy="7980480"/>
        </p:xfrm>
        <a:graphic>
          <a:graphicData uri="http://schemas.openxmlformats.org/drawingml/2006/table">
            <a:tbl>
              <a:tblPr/>
              <a:tblGrid>
                <a:gridCol w="399960"/>
                <a:gridCol w="11792160"/>
              </a:tblGrid>
              <a:tr h="11214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3240"/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ЛИЙ ТАЪЛИМ МУАССАСАЛАРИ РЕЙТИНГИНИ АНИҚЛАШ ИНДЕКАТОРЛА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ор-</a:t>
                      </a: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ўқитувчилар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лаба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фузли хорижий ОТМларнинг PhD ёки DSc илмий даражасини олган ПЎ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нёнинг нуфузли 1000 талигига кирувчи ОТМларида ўқув машғулотлари ўтказган ПЎл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н доктори (DSc) илмий даражасига ёки профессор унвонига эга ПЎлар улу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н номзоди (DhD) илмий даражасига ёки доцент унвонига эга ПЎлар улу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мий салохи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орий йилда ҳимоя қилган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Ўтган йили ҳимоя қилган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 ПЎ раҳбарлигида қилинган ҳимоя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лқаро индекслар маълумотларига кўра ўзбек ва МДҲ давлатлари тилларидаги иқтибос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лқаро индекслар маълумотларига кўра хорижий тиллардаги иқтибос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лқаро журналлардаги илмий мақола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шр этилган монография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илмий журналларидаги (ОАК рўйхатидаги) илмий мақола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12192120" cy="6918480"/>
        </p:xfrm>
        <a:graphic>
          <a:graphicData uri="http://schemas.openxmlformats.org/drawingml/2006/table">
            <a:tbl>
              <a:tblPr/>
              <a:tblGrid>
                <a:gridCol w="399960"/>
                <a:gridCol w="11792160"/>
              </a:tblGrid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1224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ижий илмий тадқиқот марказлари грантлари ва хорижий илмий фондлари маблағла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1224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1224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ҳалар буюртмалари асосида ўтказилган тадқиқотлардан олинган маблағл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1224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влат грантлари асосида ўтказилган тадқиқотлардан олинган маблағл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цензия келишувидан тушган маблағл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ллектуал мулк учун олинган ҳимоя ҳужжатлари (патентлар)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малиётга қўлланилган илмий ишланмалар миқд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ллектуал мулк натижалари асосида тузилган лицензия шартномалари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лқаро нуфузли танловларда совринли ўринларни қўлга киритган ва мукофот (диплом)ларга созовор бўлган ҳамда Ўзбекистон Қаҳрамони Давлат унвонига эга бўлган профессор-ўқитувчилар с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 нуфузли танловларида совринли ўринларни қўлга киритган ва мукофотлар (фахрий унвонлар, давлат мукофотлари)га сазовор бўлган профессор-ўқитувчилар с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ижий тиллар бўйича ижобий баҳоланган ПЎ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хборот-коммуникация технологиялари бўйича ижобий баҳоланган ПЎ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ълим олиш учун яратилган шароитлар бўйича берилган ижобий жавоб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ор-ўқитувчилар дарсларининг сифатига берилган ижобий жавоб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лабалар билимини баҳолашнинг холислиги бўйича берилган ижобий жавоб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рслик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12192120" cy="6888240"/>
        </p:xfrm>
        <a:graphic>
          <a:graphicData uri="http://schemas.openxmlformats.org/drawingml/2006/table">
            <a:tbl>
              <a:tblPr/>
              <a:tblGrid>
                <a:gridCol w="399960"/>
                <a:gridCol w="11792160"/>
              </a:tblGrid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1224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Ўқув қўлланма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1224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1224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ижий ўқитувчи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1224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ижий талаба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га хориждан талабалар келиб ўқиётган давлат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адемик алмашув дастурларда иштирок этувчи талаба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лмий ёки таълим лойиҳаларида (хорижий, қўшма) иштирок этган ПЎ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лмий ёки ўқув лойиҳаларда (хорижий, қўшма) иштирок этган талаба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лқаро конференциялар ёки семинарларда иштирок этган ПЎ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Ҳалқаро конференция ёки семинарларда иштирок этган талаба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Ҳорижий тилда ўқитиладиган ўқув курс(фан)лари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ст синовларида иштирок этган юқори босқич талабалари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лими ижобий баҳоланган юқори босқич талабалари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ни жорий йилда битирган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ни битирувчиларининг ўз мутахассислиги бўйича ишга жойлашганлари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лқаро олимпиадаларда ва нуфузли танловларда совринли ўринларни қўлга киритган ва мукофот (диплом)ларга созовор бўлган ҳамда Ўзбекистон Республикаси Президенти давлат стипендияси совриндорлари бўлган талабалар с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12192120" cy="6851520"/>
        </p:xfrm>
        <a:graphic>
          <a:graphicData uri="http://schemas.openxmlformats.org/drawingml/2006/table">
            <a:tbl>
              <a:tblPr/>
              <a:tblGrid>
                <a:gridCol w="399960"/>
                <a:gridCol w="11792160"/>
              </a:tblGrid>
              <a:tr h="560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1224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 олимпиадаларда ва нуфузли танловларда совринли ўринларни қўлга киритган ва мукофот (диплом)ларга сазовор бўлган талабалар с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1224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1224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адемик лицей битирувчиларининг умумий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1224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ларга ўқишга кирган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ўнгги 3 йилда ишдан бўшаб кетган ёш мутахассис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ўнгги 3 йилда ОТМга ишга кирган ёш мутахассис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лабалар самарали фойдаланиши учун барча имкониятларга эга бўлган компьютерлар сон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даги жами компьютер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Ўқув-тақдимот ва мултимедиа ускуналари билан жиҳозланган аудиториялар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 ўқув аудиторияларининг умумий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боратория жиҳозлари билан тўлиқ таъминланган ва амалий бажариладиган ишларнинг жами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ьютер анимацияси тарзида бажариладиган ишларнинг жами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 бўйича барча йўналиш ва мутахассисликларда режалаштирилган лаборатория ишларининг жами с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60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bometrics ОТМлар веб-сайтлари рейтинги тизимида ОТМ веб-сайти жойлашган тартиб рақами (рейтингда қатнашаётган N=59 та Ўзбекистон ОТМлари кесими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ww.uz  миллий қидирув тизимида ОТМ веб-сайти жойлашган тартиб рақами (рейтингда қатнашаётган ОТМлар кесими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111344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Профессор-ўқитувчиларнинг илмий фаолияти мах=65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360" y="539640"/>
          <a:ext cx="12182760" cy="6276960"/>
        </p:xfrm>
        <a:graphic>
          <a:graphicData uri="http://schemas.openxmlformats.org/drawingml/2006/table">
            <a:tbl>
              <a:tblPr/>
              <a:tblGrid>
                <a:gridCol w="2554560"/>
                <a:gridCol w="642960"/>
                <a:gridCol w="4356000"/>
                <a:gridCol w="1838160"/>
                <a:gridCol w="1400400"/>
                <a:gridCol w="1390680"/>
              </a:tblGrid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Ҳисоблаш ус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ЎзМ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Д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АТ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7524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нёнин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фуз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талигиг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рувч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ий таълим муассасалари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D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Sc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м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ажасини олга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ор-Ўқитувчила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ОТМ илмий даражали ва унвонли профессор-ўқитувчиларининг (ПЎ) умумий сони;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Хорижий ОТМларнинг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D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Sc (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н доктори, фан номзоди илмий даражаси) илмий даражасига эга ПЎлар с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97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йтингни аниқлаш йилида дунёнинг нуфуз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талигига кирувч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ий таълим муассасаларида маърузалар (семинарлар, амалий машғулотлар, тренинглар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ўтказишда иштирок этга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ор-ўқитувчилар улу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 - ОТМ профессор-ўқитувчиларининг (ПЎ) умумий сони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нёнинг нуфузли 1000 талигига кирувчи олий таълим муассасаларида ўқув машғулотлари ўтказган ПЎлар с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5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о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ўқитувчиларнин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мий салоҳия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 - ОТМнинг асосий штатидаги ПЎлар умумий сони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фан доктори 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Sc)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мий даражасига эга ПЎлар сони (санъат, маданият, спорт ва бошқа соҳаларда фахрий унвонга эгалар ҳам ҳисобга олинади)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фан номзоди 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D)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мий даражасига эга ПЎлар сони (санъат, маданият, спорт ва бошқа соҳаларда фахрий унвонга эгалар ҳам ҳисобга олинад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pic>
        <p:nvPicPr>
          <p:cNvPr id="50" name="Рисунок 5" descr=""/>
          <p:cNvPicPr/>
          <p:nvPr/>
        </p:nvPicPr>
        <p:blipFill>
          <a:blip r:embed="rId1"/>
          <a:stretch/>
        </p:blipFill>
        <p:spPr>
          <a:xfrm>
            <a:off x="4467240" y="1104840"/>
            <a:ext cx="1662120" cy="609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"/>
          <p:cNvPicPr/>
          <p:nvPr/>
        </p:nvPicPr>
        <p:blipFill>
          <a:blip r:embed="rId2"/>
          <a:stretch/>
        </p:blipFill>
        <p:spPr>
          <a:xfrm>
            <a:off x="4467240" y="2817720"/>
            <a:ext cx="1662120" cy="552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"/>
          <p:cNvPicPr/>
          <p:nvPr/>
        </p:nvPicPr>
        <p:blipFill>
          <a:blip r:embed="rId3"/>
          <a:stretch/>
        </p:blipFill>
        <p:spPr>
          <a:xfrm>
            <a:off x="4325760" y="4473720"/>
            <a:ext cx="1944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360" y="0"/>
          <a:ext cx="12182760" cy="7308720"/>
        </p:xfrm>
        <a:graphic>
          <a:graphicData uri="http://schemas.openxmlformats.org/drawingml/2006/table">
            <a:tbl>
              <a:tblPr/>
              <a:tblGrid>
                <a:gridCol w="2554560"/>
                <a:gridCol w="642960"/>
                <a:gridCol w="4232160"/>
                <a:gridCol w="1838160"/>
                <a:gridCol w="1581480"/>
                <a:gridCol w="13334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Ҳисоблаш ус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ЎзМ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Д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АТ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7745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ор-ўқитувчиларнинг докторлик диссертациясини ҳимоя қилиш самарадорли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 - университет профессор-ўқитувчиларининг умумий сони;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 равишда жорий ва ўтган йилда ОТМ профессор-ўқитувчиларининг ОАК Раёсати томонидан тасдиқланган докторлик диссертациялари сони (шу жумладан, профессор ёки доцент илмий унвонини олганлар сони)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торлик диссертациясини ОТМ профессор-ўқитувчиси рахбарлигида ҳимоя қилганлар сон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 ва Рў – мос равишда жорий ва ўтган йилда профессор-ўқитувчилар сони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 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орий ва ўтган йилда ҳимоя қилганларнинг жами сони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919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лқаро кўрсаткичларга кўра ОТМ профессор-ўқитувчилари нашрларига иқтибос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 – ОТМ профессор-ўқитувчиларининг умумий сони;   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Google scolar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зимида халқаро индексларга кўра ОТМ профессор-ўқитувчилари нашрларига ўзбек ва рус тилларидаги иқтибослар сони;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Google scolar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зимида халқаро индексларга кўра ОТМ профессор-ўқитувчилари нашрларига ҳорижий тиллардаги иқтибослар с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3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11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559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4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4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лқаро илмий журналларда, маҳаллий илмий нашрларда (ОАК рўйхатига киритилган) чоп этилган мақолалар ва монографиялар (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о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ўқитувчи ҳисобига) со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верситет профессор-ўқитувчилари умумий сони;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лқаро журналлардаги илмий мақолалар сони;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шр этилган монографиялар сони;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илмий журналларидаги (ОАК рўйхатидаги) илмий мақолалар с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1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3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4148280" y="560520"/>
            <a:ext cx="2152440" cy="639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"/>
          <p:cNvPicPr/>
          <p:nvPr/>
        </p:nvPicPr>
        <p:blipFill>
          <a:blip r:embed="rId2"/>
          <a:stretch/>
        </p:blipFill>
        <p:spPr>
          <a:xfrm>
            <a:off x="4452840" y="3211560"/>
            <a:ext cx="175284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"/>
          <p:cNvPicPr/>
          <p:nvPr/>
        </p:nvPicPr>
        <p:blipFill>
          <a:blip r:embed="rId3"/>
          <a:stretch/>
        </p:blipFill>
        <p:spPr>
          <a:xfrm>
            <a:off x="4148280" y="5329080"/>
            <a:ext cx="24955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360" y="0"/>
          <a:ext cx="12182760" cy="8213760"/>
        </p:xfrm>
        <a:graphic>
          <a:graphicData uri="http://schemas.openxmlformats.org/drawingml/2006/table">
            <a:tbl>
              <a:tblPr/>
              <a:tblGrid>
                <a:gridCol w="2554560"/>
                <a:gridCol w="642960"/>
                <a:gridCol w="3222360"/>
                <a:gridCol w="1828800"/>
                <a:gridCol w="1943280"/>
                <a:gridCol w="1990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Ҳисоблаш ус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ЎзМ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Д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z-Cyrl-U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АТ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606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мий-тадқиқот фаолияти ва амалиётга ўзининг илмий-тадқиқот ишлари натижаларини тақдим этиши асосида олинган маблағлар ҳаж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хорижий илмий фондлар ва тадқиқот марказларининг грантлари ва буюртмалари асосида олинган маблағлар;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соҳа буюртмалари асосида ўтказилган тадқиқотлардан олинган маблағлар;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давлат грантлари асосида ўтказилган тадқиқотлардан олинган маблағлар;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лицензия шартномаларидан олинган маблағлар;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 - ОТМ профессор-ўқитувчиларининг умумий сон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822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7494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28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307440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4404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7494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24867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22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Ўтказилган илмий-тадқиқот ишлари самарадорли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Интеллектуал мулк учун ҳимояланган ҳужжатлар (патентлар) сони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мос бошқарув органлари томонидан тадқиқ қилиш актлари асосида тасдиқланган амалиётга қўлланган илмий тадқиқотлар сони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ОТМ профессор-ўқитувчилари яратган илмий-техникавий янгиликлар бўйича тасдиқланган лицензияли шартномалар сони;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 - ОТМ профессор-ўқитувчиларининг умумий сон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r>
                        <a:rPr b="0" lang="uz-Cyrl-U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uz-Cyrl-U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18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лқаро ва республика нуфузли танловларида совринли ўринларни қўлга киритган ва мукофот (диплом)ларга сазовор бўлган ПЎлар улу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Cyrl-U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 - ОТМ профессор-ўқитувчиларининг умумий сони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халқаро нуфузли танловларда совринли ўринларни қўлга киритган ва мукофот (диплом)ларга созовор бўлган ҳамда Ўзбекистон Қаҳрамони Давлат унвонига эга бўлган профессор-ўқитувчилар сони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2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Республика нуфузли танловларида совринли ўринларни қўлга киритган ва мукофотлар (фахрий унвонлар, давлат мукофотлари)га сазовор бўлган профессор-ўқитувчилар с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1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2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1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2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1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2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3638520" y="387360"/>
            <a:ext cx="2448000" cy="609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638520" y="3033720"/>
            <a:ext cx="2433600" cy="614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3444840" y="5450040"/>
            <a:ext cx="28479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0:23:04Z</dcterms:created>
  <dc:creator>Пользователь</dc:creator>
  <dc:description/>
  <dc:language>en-US</dc:language>
  <cp:lastModifiedBy>Админстратор</cp:lastModifiedBy>
  <cp:lastPrinted>2018-08-28T04:31:36Z</cp:lastPrinted>
  <dcterms:modified xsi:type="dcterms:W3CDTF">2018-09-09T05:08:51Z</dcterms:modified>
  <cp:revision>22</cp:revision>
  <dc:subject/>
  <dc:title>Презентация PowerPoint</dc:title>
</cp:coreProperties>
</file>